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28CB-C735-478D-9C10-B58BB40F1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330F-93DF-4424-B489-50648E8758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021D-3355-4A9E-8965-F120A529C8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6A6B-BB8F-483D-B572-F96FE64312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2392-D37A-4260-A710-8D0CD91D99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A322-198D-43EA-A916-3A0021782A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BD69-D481-4163-B22D-54276892A2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3CC3-2181-4113-8648-CA1D9455C6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F58E-627D-47BF-84C0-1F21355FF3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B6E1-C55B-4232-BF22-0FB5A30285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3E84-626C-4CE1-9D47-308E76C1C6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FDE0-1B5F-433F-892D-79A389AB9E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CAAF-C4A8-456F-BBF9-91F971AAE6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A9AC-DD25-4378-AA26-57C8C22F9C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1EA7-3515-4649-BA79-A36AC33D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3706-ABDC-4341-A8EA-E7DBE354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5BA-4D29-4897-8404-688B3BD3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7E26-1C52-468E-BA58-8A77CDFB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A14A-1BBE-425B-B7DE-BCC5315D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D999-8C53-4425-B186-4DB092D9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059F-FB93-4F24-88C2-1CC65A83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5F5C-F4E7-4DDD-AA73-70914ADF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7EA0-3B03-4F1C-961F-EA84AA2D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2694-A091-425F-8D2E-310709C1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E37C-86B1-4B1A-8B90-B755758D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16E-39CE-441C-A285-26192390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8458-38F9-4F5D-9C20-4A3F3E2E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D21B-BEFD-4DC2-8744-4F41442C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2C6E-15FE-4E1E-9238-9DE4D21C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8125-CB27-4D85-B9B4-94834D1B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BBB6-EB97-4516-88F6-EEEAEEF5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0849-EBEB-44FB-9648-D115B850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1141-7D5C-49AE-8505-52D65AF2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49A9-7D68-4130-A735-91188E30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453F-582C-4527-BB41-800D7E53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2E9F-4ECA-42A7-B35D-C3608755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E937-BDD3-4000-B261-BE78990D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46C-BE0C-4A2A-A74C-E75DF2E3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3678-ECC3-45BB-A7A2-7CF828784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5BDE-6AC6-4AF3-9063-4C097C2B45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16048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Fair Trade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02920" y="326088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deal for third-world produc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quality for consum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me interesting fact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Kenya capital town Nairobi supermarkets is available  an Irish butter for lower price, then their ow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bsidies for one cow in EU are equal to two year wages of average agrarian in countries of Third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1,75 Pounds paid for cappuccino in London café, the farmer in Columbia get about 0,05 P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What is Fair Trade abou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0071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the 2005 FTF Trends Report, alternative traders who are members of the Fair Trade Federation commit to advancing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rtunities for economically disadvantaged produc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der equ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arency and accountabil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ty buil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yment of a fair pri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y working cond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 sustainabil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ion of Fair Trade princip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www.fairtraderesources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orld Fair Trade D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13th – International Fair Trade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wftd2006-logo,190x280h"/>
          <p:cNvPicPr/>
          <p:nvPr/>
        </p:nvPicPr>
        <p:blipFill>
          <a:blip r:embed="rId1"/>
          <a:stretch/>
        </p:blipFill>
        <p:spPr>
          <a:xfrm>
            <a:off x="3132000" y="2565360"/>
            <a:ext cx="3295800" cy="39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ftf_logo"/>
          <p:cNvPicPr/>
          <p:nvPr/>
        </p:nvPicPr>
        <p:blipFill>
          <a:blip r:embed="rId2"/>
          <a:stretch/>
        </p:blipFill>
        <p:spPr>
          <a:xfrm>
            <a:off x="6659640" y="5084640"/>
            <a:ext cx="1428840" cy="1381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transfair_logo"/>
          <p:cNvPicPr/>
          <p:nvPr/>
        </p:nvPicPr>
        <p:blipFill>
          <a:blip r:embed="rId3"/>
          <a:stretch/>
        </p:blipFill>
        <p:spPr>
          <a:xfrm>
            <a:off x="7451640" y="2781360"/>
            <a:ext cx="1428840" cy="1952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mediumftomark"/>
          <p:cNvPicPr/>
          <p:nvPr/>
        </p:nvPicPr>
        <p:blipFill>
          <a:blip r:embed="rId4"/>
          <a:stretch/>
        </p:blipFill>
        <p:spPr>
          <a:xfrm>
            <a:off x="1258920" y="4795920"/>
            <a:ext cx="13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fairtradelogo"/>
          <p:cNvPicPr/>
          <p:nvPr/>
        </p:nvPicPr>
        <p:blipFill>
          <a:blip r:embed="rId5"/>
          <a:stretch/>
        </p:blipFill>
        <p:spPr>
          <a:xfrm>
            <a:off x="468360" y="2781360"/>
            <a:ext cx="1270080" cy="148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nks for further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ad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fairtrade.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fairtraderesources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jedensvet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.wikipedia.org/wiki/Fair_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ank you, have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i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ay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rodu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4724280"/>
            <a:ext cx="8007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0% of world‘s cocoa in small fa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 farmers have never tasted a single chocolate bar in their liv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300x193_chocolate"/>
          <p:cNvPicPr/>
          <p:nvPr/>
        </p:nvPicPr>
        <p:blipFill>
          <a:blip r:embed="rId1"/>
          <a:stretch/>
        </p:blipFill>
        <p:spPr>
          <a:xfrm>
            <a:off x="1619280" y="1484280"/>
            <a:ext cx="561672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rge companies don‘t help muc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ers are forced to sell their goods for very low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ve no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s to bribery and organized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to break the cycl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ir Tra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general term for an idea of ethical and rational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ir Tra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eans up relationships between producer and consu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ir Tra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no charity – it just provides producers with appropriate w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ir Tra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ans top quality food and goods from known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air Tra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one can contribute to improve living conditions of actual produ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 imp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r trade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logi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r trade eatables are BIO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laves, no children forced to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Fair trade goo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ange of fair trade products, including crafts, fashions, foods (such as chocolate, honey, bananas and other fruit), beverages (tea, coffee, fruit juice), paper and cards are avail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s are sold through an extensive network of small retailers and many big supermarkets have a token few products available for purch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l-order companies exist all over the world, from small specialist grocers to new on-line suppli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also check out the legendary Starbucks for a token sample of fair trade coffe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BC N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nomic vie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 business transaction is a challenge to see that both parties come out fairly.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dam Smit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The Theory of Moral Sentiments (175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ee trade and market fail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international trade with agriculture product really fre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bout price of goods on this mark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ation of situation in agriculture between developing coutries and those developed ( especially EU, USA or Jap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it possible that Fair Trade could improve the world „free“ mark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09:20:06Z</dcterms:created>
  <dc:creator>Pavel Kasík</dc:creator>
  <dc:description/>
  <dc:language>en-US</dc:language>
  <cp:lastModifiedBy>master</cp:lastModifiedBy>
  <dcterms:modified xsi:type="dcterms:W3CDTF">2009-02-26T20:43:00Z</dcterms:modified>
  <cp:revision>14</cp:revision>
  <dc:subject/>
  <dc:title>Fair Trade</dc:title>
</cp:coreProperties>
</file>